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982-BAC1-4A3D-BC23-7E5727ED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3E2-DAEC-4229-B9DD-4582A81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8C13-91F5-4587-8A78-C8ECC9FE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5BC3E-1E59-49B3-BB4C-4B42EC3A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CD7DA-32D0-474E-9269-0893ABB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C4D68-F43F-487A-8A62-5F35805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8FC50-FE78-42DA-9665-9AB4345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7B2BC-E842-440D-87A9-16FB43E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408F9-F2C1-454E-B093-DABAC26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911B-362E-4CBE-8A00-B5B51DD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79C71-3EF6-48D3-AC59-ACB530BB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C95F7-4761-492D-A010-32BDCEB0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209-B687-49EB-A2D4-11BBA080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A44FC-A656-4D07-98B1-022D44B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5003-6E58-497C-A35F-09A0700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A312-52A3-4DE3-B744-F078B2C1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5485-CCB7-41DC-9562-D0564AB5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A9917-F670-4217-8174-4AC537F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DC375-11C1-4145-AD26-D5F2A33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BFF8A-5B04-4A6B-8942-7BE9D14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7AC97-1EE9-46DC-A49A-3706CF6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CAB33-D656-4B42-9CFB-CDD5E07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A8288-C1CA-45F8-8947-1D6994FC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653-F13C-44F5-A3EA-39AA437C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98AAF-2999-46A2-9672-093E5885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8E12-A338-406B-A29B-A059864F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1896-54E8-4238-AFD2-AB66E4D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9355-66BB-42EF-8EB6-CAE7AE1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7A6E-41F5-4AC7-AEA9-83B0C59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DB47-ED41-49F2-A7D2-D1CF1EE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EC2CD-74B1-4F56-9C23-9CC50271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E375-6D69-418F-A932-FAA43BC0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B1AB-881D-4D5D-9B14-2D4A167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214D0-EE14-4E28-80D2-1E852BB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459-EB42-4397-9932-F82E82A6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404F1-7B3A-4B89-9822-FF0D76C3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306AE-3036-4640-8F6F-6F40DA83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2017E-0966-49A9-99C0-83806960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61FB5-006F-4A1F-8659-5E9FF80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6AAA-A896-4D1E-9D0B-F58741E9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BB20B-6375-41CB-A21A-8C0802D5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7CEA9-1943-4E14-A0FF-B55AF68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4E192-0E5E-46E0-9A6F-3A03925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2BC3E-F166-4E45-99C0-74D9872B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1D0EB-38D2-4F2B-ACE2-6EA0320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EEB9-DDF8-4735-8112-41CEFC40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752C-4931-4301-B491-EEE6ABE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9F277-5916-4499-8108-815DE0C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2630C-CBA2-403A-95A5-85DBDA7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78E32-2A81-4A77-9975-1980E2E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56CA3-57AF-4223-86FD-8582D8E0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3D942-A3DE-4A03-9B8F-E5B6C854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9D8C3-633E-4446-B008-0315912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E01A2-3B46-47B8-858E-A2BE436E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B8C6F-C1C3-443A-A461-97212E5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93F70-F323-47AB-A8FD-D61E15D4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61B-2B43-4EED-8D5E-90AE9BC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191C4-14D9-4A41-81C1-6744D909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4B9E7-C7BC-4C7B-9C75-D398E98F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75A99-886B-49E4-8FAF-FFEF3A7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CFDBD-8061-4810-ADF2-0A01ED7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CF777-DDF5-47DC-8AF4-1C8334EA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EB052-4C70-40DD-A690-F82EC2F6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B07C9-B048-4322-8FD9-C86F8973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545EA-905F-43D4-96DE-B712BE97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737BE-0599-4900-AB3A-376B993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E6522-0ADC-4FE1-B3BA-3AD87FDF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E86F-9C64-446F-8EB9-953D384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FBFB7-A8A9-4F2F-956C-E47DEAC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3D9AF-7845-49ED-B594-A009BD8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9ED69-7A35-457F-890B-41365052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C681A-390F-4DB2-984E-0D6B068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0FC4C-B0D7-4B8D-B654-43C4A3B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9667D-E8DB-48ED-ABB9-2040CAB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AA4B8-C093-421E-AE78-6153238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73910-C1B9-4FB1-B033-D6649AEC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3D6EE-1D3A-4C6C-9A13-B9152AD0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C5346-D612-429C-96D8-5457D8F1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C53-89E5-414D-AF28-41F61D9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4591D-A9D8-4D0C-9C15-E91FF1D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9E82D-C599-4416-9B50-A4D98BE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A4FE7-F60E-4B0B-837F-4709CA0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03CC6-F25C-4993-87B8-753F75B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FFF41-D228-47BC-BDA9-8621324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C641C-7682-4909-9513-9CC754B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524A7-CB13-4EAA-8B09-2035EE0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92E23-8A60-425C-8891-22EB492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48BF0-B24F-44BC-87EE-D0060A0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E3EAA-BE92-4FEA-A94C-A5193755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4531-646B-47C7-A8A0-4267F80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7652A-3A65-4E87-A33E-0CECC25D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1B64C-18C9-4887-AF1C-11CCF76B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14C1D-0495-4F39-9AA7-99D27101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1D35F-27B7-42B1-A7AB-F00A1CAF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8F594-CAD2-48FB-9B9A-C807BD4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D9169-7629-44BD-9C5A-1AFDC7F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5A3A5-0B2C-48F4-B98E-A6CD173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39045-3E9A-4427-A263-B99848C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A715B-BFBB-4AD1-A37D-2B9B2444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D24FD-0F73-4A05-8556-66578D4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53C7-DB15-4BB3-B9F1-831CD84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3CF86-649F-40C0-B17F-30D7FC2F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78D80-2A19-4D0B-B263-9CCF3CB1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77398-7C2C-445C-A2DE-FE8170BC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4DE4F-EF60-4F39-B7DB-D8CD0CAD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D7259-AC9A-4AB1-B694-997E5D04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A902A-30B5-4292-BB29-50C410E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C681E-A286-4552-A149-4A1DD2FA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A9ABF-A70E-474E-B9A2-E6504844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C250A-CAA6-4028-9D79-EF989055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8A732-DDEE-4AF9-83B2-4CB326A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C3A-3406-4222-AFE0-2652142A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3EA-0B92-4306-AAAB-BD9F6ED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A4F41-507F-4AC7-A737-BED05180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17D47-ECF4-4F8E-9443-ABA0438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92AA2-929D-474F-8136-3D62E21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62D76-FDE9-48AC-9CBC-C63EEB25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E9C4D-7DC9-4FB8-9CE2-21A3027A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20673-B199-48A0-9BE6-0ABC7E11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359ED-7EC4-435D-AE68-8E3D26F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411B1-983A-4059-B493-7B8EAB66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64499-041C-47CE-9EC9-B89AFBE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0A179-6370-41B6-BFE8-789D40E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97C-AF01-484C-91B3-765E0E2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7089D-FFB5-4EB7-98B1-5E70C4FA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F1B5F-AD10-4956-9F7B-410D7E8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4064E-A1BB-495B-9E9A-9330268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449E7-556A-4486-969E-2873897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35E63-1DD5-4054-91D3-D564C72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60C37-4D44-4149-BC02-23B5E829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90BBA-8278-4950-BD68-37CE32A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1BCBC-12DE-45BC-A97B-1061C65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368A4-BCA1-4400-B700-22DC38FF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E6318-0949-4F7B-8201-458D218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1463-D14A-4B49-ABDC-B603EB1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A58ED-F6C8-4131-8456-4C4F0453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4DBB2-5278-4C27-ACBB-30AFFBD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B9362-B5E6-4397-92E6-1639103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30D92-E2A3-4DFB-B223-63391CF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2EA99-1D58-47C0-B632-CFF3C6C0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FF805F-CDB1-4415-A0F7-52AD1B3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9378A-31A5-495E-9445-949360A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802C8-61EB-4E7B-9223-C0BF2938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93793-0907-4685-AE01-E1348876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A118B-702D-4CA1-A183-F1FE143D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115-A21C-40FC-8B67-4B6B2B89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DB94F-29D3-407B-8871-4FA58E5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FC497-098D-4152-BD24-2B82B0EA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B26DF-3C7F-45A8-B6F0-C5F04B9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45882-D550-4548-9F74-642E6D77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C1AD9-62D8-41AD-8319-319D33C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D6341-6A32-41D1-8D44-648C972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FC9A6-33DB-4FDC-9F50-E9CB909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815B0-B006-4607-AF55-1BB7701E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1E8AD-0205-42FB-9E5C-162C8D4B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3630F-1895-4D75-BD25-6A351C5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66C-ADF1-4F91-B722-5B352A0A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AD2F2-5F1C-413B-B5B4-41110101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F4741-9371-43BB-A79D-AAC45E25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B0F77-98A7-41A5-A33F-605659D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04F652-D215-4067-BC24-207A4AE2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42316-0995-42DF-86DA-799CB90F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3996D-FAEA-4139-B861-C532D8A5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F302A5-7100-4419-A209-21BAA75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400B9-D9FA-4972-B680-C71FFC7A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2DB730-225A-409D-91E9-03808E6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CB0D7-AB05-49B2-9BC1-04B3B30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AEA0-FB4B-4AE1-8D0D-846A651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6B5AF-11A5-4D5E-B015-8158BAA8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57F74-FE41-4D35-992F-6D2C0F05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639D8-B353-4A0B-A223-864012AF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D5A87-BE5F-42ED-A97A-CCD6AF8D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BD6C2A-C7E6-4B4B-BDF0-65BE028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9ED61-06FF-4540-A035-BD196CE2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4B3EAE-67CF-4657-9E8F-31BC0D7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54E78-0F11-4F70-B1FF-C3325E0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98333-C671-4D27-BCC8-464E4A1D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3B67A-18AB-493E-BBC6-1030EEE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D55B-4BB6-4C8B-B00C-C25561A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AEBD7-812B-4183-9584-8D50C1A6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981A6D-3193-4CAF-A65B-C37595B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D57EC-D23A-40B9-A91D-04223AD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52F09-00C0-4BC8-BD38-8CCDB80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8BC8E-5CA7-463F-9338-29182CDC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A90C3-20C5-49A5-821C-32F20C1F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29553-063C-4FA7-8372-D6B596DB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0AFAB0-1C4E-4C6D-84BD-A155DC4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0D796-AB31-4E34-8B02-4736EFC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87FD25-F363-4500-BD9D-53F57C1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5EEE-A127-4A69-AA2A-E198B44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1B356-3FEB-4387-ACD9-3EE4E8E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85F38-4442-4C22-B30F-E3557F0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B0E89-64CF-46F6-A348-8955A9A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2D861-6A4D-4F72-B101-99DF001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86FD97-3BF3-45BF-9B88-D8DB574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04301-33FE-4F26-B161-D18C134D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370067-C844-4356-B2DA-331417FA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AFEA-1C2D-48F3-9E82-54859C40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D3DF-7966-458F-A5E9-28198FA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48E-FA2F-42B2-A53A-B46A53EF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7B59-3D2D-4A7B-9DFF-D92208BA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0A09-D320-474E-9259-1F9030C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3EBF-AF78-43AB-B976-87D5E62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EFA3-72CC-4BD1-A3DD-99FFE13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648A-0009-497F-B23B-EC17396D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FE13-9898-4BD0-94C7-9E34AABC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B1CF-5F21-4DB6-A2B1-E31B4588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447B-8C87-4693-B6E6-B8ED2983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2B4D-377B-424A-BC25-7AA236B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1794-7526-4B9E-9A44-E10DF005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ECD-7D1A-4F8F-A0D3-AC162203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A67A-5621-45A8-937B-D5D5C7DC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46D5-55BB-4A6B-82B7-55BD201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2BA8-201F-436C-8EF8-9A01C75A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A16B-42F2-4B1D-8D60-766D001A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DA7B-554F-4DF7-BA9A-F0A12BC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8175-0F4E-438A-A3A8-D162344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7F0F-80D4-409E-A9F1-C976899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729A-E3C1-4C8B-A6BB-5357B2A9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F0AC-D3B0-4906-8B28-F0664AD4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5EEF-B212-43E3-B212-565FC63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D9A-A547-4739-8977-818B23C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B29A-FDD6-4EF4-83E3-7E274B4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F7FD-A9C7-49D6-BF83-FD28458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E173-50A0-42AB-9689-8C46E90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3B3C-6937-4388-8453-39E4154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3EF2-945A-405C-AF05-54B87CD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474E-7982-4127-9716-ACD6356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F5F5-9B00-49C4-9399-9855FE92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8F79-F1FE-49D7-85F7-57C494F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9DC8-919A-4D14-89FD-C25A33CB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AC2A-0789-441C-ADCF-3D868A0F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60A-2F3C-4D22-8F1F-123E155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8EB5-1A5C-41AC-9160-DD72F3F8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25B0-7EA6-45CF-BFFA-7A55CA0E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012A-285F-43CB-BB42-93D56659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9F28-4CDB-40D1-900F-9245D17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CF53-5FB2-426F-8771-3C53715E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CB08D-5F94-460F-8FF0-DAE4942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7FEF-F67A-45DC-901B-48AD6CF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47B3-E932-439A-9289-31B3863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B11B-76E0-4C2F-B4B7-096CDA5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5B5D-DBAD-4342-AA5B-9F037D1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5B2-567A-4AF5-AEDB-CF088EB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A2B4-D2A3-4C8A-86E6-09D174B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25F4-4BAC-45AE-A4DD-3F0013CC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2293-7F5E-4926-9180-2ADF90E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6665-979B-49DD-81C3-C9DBA214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6DD0-96C6-4E76-8BB1-9F9C946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6AB4C-7CDB-4D1E-9B5C-99820B0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532A-246B-4EFE-BDD6-BC06B3C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A22AB-410B-495B-B5BA-15DC073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99DF-0CEF-4E62-844A-D9EC987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AB89-2DA5-4AA8-A3C7-37545EB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AAC-ECB8-455A-B6E0-0F3F70D5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26838-088B-4013-8B37-3DEA309F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5363-BD07-470D-A7EF-EAE04D6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7BF6D-718C-436C-A1AB-0492B4C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3EBB-5421-4146-AF14-70124C7F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6A32-5A6A-4B0C-98C1-13E53BDB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E6F1-C863-413A-83C7-75962C18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555E-9DD1-4826-B7E7-54A708C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29FE-2419-4578-B4E7-54E28DB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E2F4-1DBC-4B04-8281-278C40A0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27C84-063B-482F-AC67-9BA08999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A4A-A0C2-4B57-866F-19F5B43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FA6CA-EB04-4FC5-A8E9-C7DE473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A898-6B96-4A30-9164-FF6139CE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D03A-207A-4FE5-AE69-B8ADD9A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93BD-E522-4462-BFA4-3D7EBAF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233C2-3A41-4697-9864-2C8D796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5BA3-1658-4D19-86BA-8D379DA4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49BC-2CAA-40CA-8983-43968EC2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4E567-9D04-4687-820B-E8B21F1D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43FE3-FD77-40B8-857A-FCA7A543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F0F25-E729-459F-B335-DDBF315F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E12-5C26-4AF8-BCAE-F0869C2F0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FB0A-1ED8-4806-B095-DA5B92362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986-6271-45B9-BE59-0CDAAB2AF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F5D-D7BC-4F23-B7EA-ABF67E6053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253-0826-474D-9563-74ED50C62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1F24-9E5B-408E-A747-12C2C6DD4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CF02-A167-45A5-A2AA-3C903B034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3B6-D1CD-40BA-AE89-1A0C6F797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C71-678C-4FD7-9689-6FBB11CAC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34B-F62D-4BA5-8EE7-869F0D70BE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BE6-1466-424F-896E-22780C001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CDE-925C-4540-9B4F-EFD77025A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987-8DC4-4797-ABD5-8F682F3F9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2E7-2C8F-4C04-839E-7B268C378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70AB-84A3-4684-A1EE-F21F78CF6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2F3-53A0-4BF1-AFCB-C7A1E133C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5FA3-079C-4B7D-964E-7CD7DB6D11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34A-7495-49CA-90E0-6E5B96A79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C3E-CB78-4390-B997-B2984D085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20E-D6B6-4EE7-852F-D7835F32F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FD6-2897-4602-8F42-A3A4AB4C1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DD5F-E57D-4135-BBD1-5F741DB578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D6E-1ADC-437B-9131-F4AADBE74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334-324E-4C56-997B-AEA80F97E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D7FA-0714-4D6A-8ED6-923F90DAD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066-C7B1-41E7-84F7-8683526B9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B65-75EE-4890-AA6A-CFDC56E13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68B-90C7-4527-8C10-BF66A41C3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B5A-0EA6-4A25-A806-FD2EE34F1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BCFF-6BAE-4EB5-9AE5-FA0F431BC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AA23-60FA-4038-B418-57ED5FD86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0AD5-EFD4-476A-91B8-BC394A79E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B53-895D-4094-AB68-5710111EF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312-E59D-45B7-A0CD-33F0554D57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873-89B3-4659-890B-14DCBD823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142E-A70A-4010-93D0-04C169669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570-472D-4B7C-B003-42E452AD8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9259-5A26-490F-8319-10E6A259F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092-9BFB-43DB-80FE-690E31296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959C-75DC-4500-8A83-C379793EA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64D-93CD-4CFB-B4CE-0FABFB96B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6B14-87A4-4605-9ADD-5778159B4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90560" y="3024360"/>
            <a:ext cx="756288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90360" y="1785960"/>
            <a:ext cx="8961480" cy="32860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76320" y="2004840"/>
            <a:ext cx="8991360" cy="2848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152360" y="1890720"/>
            <a:ext cx="6839280" cy="30765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5724360" y="3156120"/>
            <a:ext cx="792360" cy="293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959200" y="3492360"/>
            <a:ext cx="1036440" cy="3304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140360" y="3860640"/>
            <a:ext cx="936360" cy="3304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843280" y="4264200"/>
            <a:ext cx="792000" cy="2934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771640" y="4624560"/>
            <a:ext cx="792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514440" y="1790640"/>
            <a:ext cx="8115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1079280" cy="293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3879720" y="2492280"/>
            <a:ext cx="107964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4356000" y="285264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4427640" y="32274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3851280" y="358776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2095560" y="3948120"/>
            <a:ext cx="93492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4932360" y="4335480"/>
            <a:ext cx="93492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9"/>
          <a:stretch/>
        </p:blipFill>
        <p:spPr>
          <a:xfrm>
            <a:off x="3405240" y="4695840"/>
            <a:ext cx="93492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538200" y="1195560"/>
            <a:ext cx="8066160" cy="44668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089080" cy="2934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2050920" y="2665440"/>
            <a:ext cx="208944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4572000" y="2651040"/>
            <a:ext cx="72072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3564000" y="3386160"/>
            <a:ext cx="201600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2268360" y="4081320"/>
            <a:ext cx="2374920" cy="346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1547640" y="4797360"/>
            <a:ext cx="503280" cy="3510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3132000" y="4811760"/>
            <a:ext cx="165600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2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